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4DC-6A59-4CF7-8937-0441EE79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37F-9F97-4B70-922C-A3A721F6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C0E-76DF-4677-89DB-BCC661E6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A5B-A9F4-4AE1-9AE8-7EC1DC9D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2FED-049C-4AD5-93E5-01091CC0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8790-5E7C-4492-BEB7-47425B17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993D-3264-4D2A-BA2E-EBA5C7EC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8C81-5DF5-4A92-92D3-D2A9A834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CD98-DDB9-4A32-B33F-F2CA8D06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11DE-36D6-417C-85DE-BD824163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95B4-783C-461D-8520-96E13C7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731-BE67-4ED0-B9F5-43FC6DC8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17B0-9256-4764-993A-62272160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AD6F-D3E8-4B40-BA70-B5837783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3FDF-C33F-47C8-8A0C-4195E142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926F-59AB-4F76-ABA1-789A1696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7628-4312-4C0A-B3AC-83CFAFE2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CD5-0ED3-460F-98A0-B480C2B1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F5E-EEA9-49AC-AC07-1F1E1140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1EF-646D-496E-A248-9E579D7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B5D-3919-4955-B1EC-9F441B9D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1B3-B46F-4DD7-AE2F-2FA7109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EDD-6C38-4F86-A7E1-FA1DC083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AB0-4E14-480A-B42A-F5DD6D06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00040"/>
            </a:solidFill>
            <a:ln w="442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0004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8971-BC06-4B68-A22A-F03F5C0C66D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00040"/>
            </a:solidFill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C026-E857-4A6B-9560-CE1C41AEE36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745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Has society become to tolerant of drink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84280" indent="-5842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rodu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Binge drinking: young people don’t get punish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mmercials on TV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Less parental contro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584280" indent="-5842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 Bo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S: celebrities are drinking, too (David Hasselhoff, Paris Hilt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ess =&gt; tolerance =&gt; dr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pre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490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y access to alcoholic beve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thout friends no one would choose to live though he had all other goods.” (Aristotle). What do you thin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ti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Buddies, dude, homies =&gt;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ot of expressions for „friend“ =&gt; important concept in a society that is influenced by consumeris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in Body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can rely on frie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beings are “social animal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iends are VIPs: even Aristotle knew that some two thousand years a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olence at schools has increased over the last few years. Write an article for a quality paper in which you analyse the causes and effects of this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ti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bbing: Verbal abuse/ physical ab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cal viol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in Body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yber mobbing (easy, anonymou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ames/ media/ TV: early contact with viol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 many students in one cl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ed more control: Learn how to defend onesel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or should people be forced to adopt a healthy lifesty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tion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cohol, obesity in our society, higher health care co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in Body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body can be forced (no legal ground/ constitu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: people should be offered possibilities to change their lifestyle (sports programs, Weights Watch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1930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12:48Z</dcterms:created>
  <dc:creator>Susanne Müller</dc:creator>
  <dc:description/>
  <dc:language>en-US</dc:language>
  <cp:lastModifiedBy>Susanne Müller</cp:lastModifiedBy>
  <dcterms:modified xsi:type="dcterms:W3CDTF">2010-03-03T16:58:23Z</dcterms:modified>
  <cp:revision>11</cp:revision>
  <dc:subject/>
  <dc:title>Folie 1</dc:title>
</cp:coreProperties>
</file>